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217-8951-4D1B-B342-E9BE22E2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E30-FC7B-4A2A-AA8A-A7FD14C3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840-344D-45E5-B492-FF5BB640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890-05B0-443A-8312-199C728C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C0C-8873-449A-8007-0D515DF7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7EE-C1FC-496F-937D-DF634B8A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DAB-736E-4428-9FD2-BF17F0AF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2F0-383C-4C6E-9A6A-297E0E8D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9B5-98C5-48EB-BFC0-5F224F20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A23-BF74-4102-A888-47E7FB89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8D8-2AB6-4C53-9DAC-6FFC2E21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DCE-AD20-4E37-9FA0-66A74C6E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F673-BABD-486B-923B-E6492F4CA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1 Ty sám si nás zhromažd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ám si nás zhromažd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z milosti nám svoje požehnani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zlého nás zbav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teba len chvál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 zástup spasenýc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osláv sa v n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v búrkach si prístavom záchrany bol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z úskalia skúšok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viedol si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lúdiacich hľa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nádej si dáv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láskavý tvoj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prevádza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s láskou ti chvá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 vzdávame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z úst našich znie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a neprest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 nie sme tu sa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, Pane, si s na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náš si smer i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náš Spasit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2:17:51Z</dcterms:modified>
  <cp:revision>21</cp:revision>
  <dc:subject/>
  <dc:title>Je veľký náš Pán, on slávy je Kráľ Nech do všetkých strán  spev vrúcnych znie chvál.</dc:title>
</cp:coreProperties>
</file>